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419-667F-43DA-AF87-2C51CDEB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448-BD10-4C7F-B64C-D3AD47BE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D74-DB6F-4323-9C0F-929F5FEE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944-7D05-47BF-97E3-FBC4656C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105BA-53EA-4813-9B67-6A80C87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772B-43E1-462E-B8AB-0AB64542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66B9-DF7C-46BE-BBDF-030ADE3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141E1-E425-4418-8AAD-F2412E9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4EBD5-4A1B-4544-93E5-BC6A5AF2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C0E87-FE90-49FE-9BBF-A45F47E6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AA05-9287-42E7-933E-BE24D56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E69-2458-4B67-82AE-6131355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64C68-8430-413F-8B60-C31D3F0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02D4-DA97-4110-A72B-7B0E88D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D997-1D4E-4F69-B5D6-1F64D131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F4C8-8DAD-4C79-AAFB-4EC10A0F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E9130-63B6-439E-B6EE-F0A5D96B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560-7408-423C-B5AC-7893C7E8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9CB-5656-41C6-B24B-2FF159C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C47-23DD-4BF7-9B61-B5C6B94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F37-85D1-41FE-B6E8-55D1322C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810-145F-487F-92A3-326E569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82D-C430-4C80-9176-0B9695B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892-1DB4-4652-B60E-F12054E6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A648-9097-42E2-86FA-205360B2C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ABE-7E4D-421E-8899-35E5ACE91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принципы работы светодиодов и п/п лазе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581360"/>
            <a:ext cx="540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Лёвкин Алекса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мала Пав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ндычев Андр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нная диаграмма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зонного полупрово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616360" cy="5240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516720" y="5543640"/>
            <a:ext cx="237960" cy="247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47628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516720" y="597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00720" y="4046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5400" y="544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элект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440" y="5877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«дыр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42100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84720" y="1484280"/>
            <a:ext cx="2708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51940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нная диаграмма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ямозонного полупрово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689440" cy="5186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2673360" cy="32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516720" y="5543640"/>
            <a:ext cx="237960" cy="24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516720" y="597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45400" y="544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элект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440" y="5877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«дыр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7:49:58Z</dcterms:created>
  <dc:creator>Aleksandr</dc:creator>
  <dc:description/>
  <dc:language>en-US</dc:language>
  <cp:lastModifiedBy>Aleksandr</cp:lastModifiedBy>
  <dcterms:modified xsi:type="dcterms:W3CDTF">2003-12-10T20:19:37Z</dcterms:modified>
  <cp:revision>12</cp:revision>
  <dc:subject/>
  <dc:title>Основные принципы работы светодиодов и п/п лазеров</dc:title>
</cp:coreProperties>
</file>