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A77D-5CA9-4470-9B92-C7B3F9313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D401-A203-409D-B4BD-DC8C1F1F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8A70-6405-4DE3-8C25-C3FAFC1D5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1ABF-82AE-4A98-B745-0B455C957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AD2AA-5FDB-4E8C-8F00-13A7B1E92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DFD4C-04EB-4B6A-B1E9-90D93454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F04660-F0F6-43F8-8A37-9E2EB3FC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F72C7-6A42-4742-B8AE-0BDA11ED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149FC-5830-4BB4-9792-5AEBFC0E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62555-DBD9-4E73-B8AF-306B401E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994385-656B-46FA-992C-7B81FC70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0A54-6BD8-4EE9-9140-B39FE315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FD506-C642-4B9E-80A0-4A866579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BF954C-C461-4F36-AA7C-C92947B3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7BA24-D258-4729-BD63-6EE706D3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70A643-394F-4A93-BDC9-843D48E29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B076D-EC92-4FCB-8262-56F267379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95B6-702F-47E5-8823-EF8BF6E1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773E-0FD0-407A-B92D-C02ACE77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D344-98CD-4E94-BE76-644014CF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88C3-D8D1-4F5E-9340-4C8703DC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0E4A-386A-41F7-A750-C9EB2FE0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37A8-AE1B-4C7C-8BC8-87A4454D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F17E-F965-42C4-98A6-A99E8ABA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275D-D75B-4773-A306-45F7569A91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BCF9-49DA-4249-B3A0-FC54061055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сновные принципы работы светодиодов и п/п лазер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3348000" y="4581360"/>
            <a:ext cx="5400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полнили: Лёвкин Александ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умала Паве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андычев Андрей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онная диаграмма</a:t>
            </a:r>
            <a:br>
              <a:rPr sz="32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ямозонного полупровод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5616360" cy="52401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6516720" y="5543640"/>
            <a:ext cx="237960" cy="247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867280" y="476280"/>
            <a:ext cx="26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6516720" y="597528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300720" y="404640"/>
            <a:ext cx="239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45400" y="5445000"/>
            <a:ext cx="173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электро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77440" y="587700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«дырк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24720" y="2421000"/>
            <a:ext cx="14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6084720" y="1484280"/>
            <a:ext cx="27082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700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51940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онная диаграмма</a:t>
            </a:r>
            <a:br>
              <a:rPr sz="32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прямозонного полупровод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5689440" cy="5186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156360" y="1413000"/>
            <a:ext cx="2673360" cy="3240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6516720" y="5543640"/>
            <a:ext cx="237960" cy="247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6516720" y="597528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845400" y="5445000"/>
            <a:ext cx="173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электро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77440" y="587700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«дырк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7700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262400" y="3719520"/>
          <a:ext cx="619200" cy="4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2400" y="3719520"/>
                    <a:ext cx="6192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4343400" y="3719520"/>
          <a:ext cx="457200" cy="4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43400" y="3719520"/>
                    <a:ext cx="4572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8424720" cy="58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8496000" cy="601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3520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900000" y="549360"/>
            <a:ext cx="7345440" cy="55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7T17:49:58Z</dcterms:created>
  <dc:creator>Aleksandr</dc:creator>
  <dc:description/>
  <dc:language>en-US</dc:language>
  <cp:lastModifiedBy>vetrov</cp:lastModifiedBy>
  <dcterms:modified xsi:type="dcterms:W3CDTF">2003-12-11T08:28:56Z</dcterms:modified>
  <cp:revision>13</cp:revision>
  <dc:subject/>
  <dc:title>Основные принципы работы светодиодов и п/п лазеров</dc:title>
</cp:coreProperties>
</file>